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FD7-0B66-4C85-8772-CB6D95EE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B0A-0438-4138-B70C-777D0853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9EE-562A-4276-97F0-825F6261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2F4-1178-4EFC-8B5D-31D852FD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29B1-1A06-473E-82A6-DE53B6A6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D86D-4C4F-4F9B-874F-FC8DA6D9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9F5-8A71-4069-B944-773095F9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3E6-800D-499F-9F09-C073989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93C2-32FF-47C0-BC5A-FE932135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6B88-AA62-4C74-89A8-4C6E45DB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8B6-34AB-4660-A97E-0C21773C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074-BE1E-41C4-B87C-074FE544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46F9-5505-4684-A0C7-356407D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FDE1-884D-4904-AEBC-D976A8D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566A-7AD1-48AB-9973-1C7C8FA5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6696-6674-4644-982E-51C10C88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6EA-F392-42AB-B680-6D67A64F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453-8632-48ED-A463-3A10BC96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990-8155-4FA7-94E1-7FB960F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D87-198B-4227-A454-EC691EA7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E6A-696A-4AB3-9928-FA06FA4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D86-1BD4-4625-82C0-9EA0442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91C-5178-48B7-9210-1D199475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C86-18EC-47C6-8707-4FE66E2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640" cy="1523520"/>
            <a:chOff x="0" y="0"/>
            <a:chExt cx="9143640" cy="1523520"/>
          </a:xfrm>
        </p:grpSpPr>
        <p:sp>
          <p:nvSpPr>
            <p:cNvPr id="1" name=""/>
            <p:cNvSpPr/>
            <p:nvPr/>
          </p:nvSpPr>
          <p:spPr>
            <a:xfrm>
              <a:off x="0" y="711720"/>
              <a:ext cx="8993160" cy="81180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3640" cy="14641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9C8C-2D2B-4161-958E-00B9C086F16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A158-3359-4631-980C-AE80EE9798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ife of Christ, Part 1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reat Galilean Minist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0-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r, We Would See Jes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97A-DB8B-4950-9B5F-6C2338C1B8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Sinful Woman Anoints His Fee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7:36-5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attended a feast given by Simon, a Pharis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ful woman ca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an alabaster box of oin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hed His feet with her tears and her h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inted His feet with the oin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arise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ough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Jesus did not know she was a si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preached a parable on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FE2-DEEF-4884-84B3-B2FE3006AC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arable of the Creditor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7:41-5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reditor had two deb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wed different amounts and neither could pay their debt, but the creditor forgave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:  Which of them loved him the mo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on:  To him whom he forgave the most indebte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compared Simon’s acts with the woman’s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forgave the woman’s 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561-11D3-4BF0-A979-441CDABC4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Heals A Centurion’s Servan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8:5-13; Luke 7:1-1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enturion from Capernaum asked the Jewish elders to ask Jesus to heal his deathly ill serv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urion sent a mes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worthy for you to enter my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say the word and he will be hea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when one has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poke and the centurion’s servant was he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A8F-A495-441B-AE63-BAA630F9A4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Raises the Widow’s So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7:11-17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His disciples and a great multitude went to N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eral procession was coming out of the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idow lost her only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“Young man, Aris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ediately, the man sat up, spoke, and came out of the coff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s spread throughout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183-8143-4D30-98F6-66C50F33AC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ssage From John the Baptis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2-19; Luke 7:18-3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prison, John sent two disciples to ask Jesus, “Are you the one that should come or should we look for anoth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busy performing mira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’s disciples witnessed these mira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070-8C7D-48F2-BB95-84AF11DC8D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’ Response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4-6; Luke 7:18-3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urned to John’s disciples and sai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and tell John the things which you hear and se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lind see and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me walk;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epers are cleansed and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af hear;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ad are raised up and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or have the gospel preached to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blessed is he who is not offended because of M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20C-BDB9-492B-A2EB-63A59035D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Praises Joh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7-19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poke to the crow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you think you would fi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ed swayed by the win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an dressed in fine cloth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ph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the one of whom it was said, “Behold, I send my messenger before thy face, which shall prepare thy way before thee.” (Mal. 3: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also said that there has never been one greater than Joh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0AF-5B25-406B-91DD-C2F6F6624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Praises Joh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7-19; Luke 7:24-3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wd rejoiced over John’s bapt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arisees rejected the plan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riticized John and J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hen criticized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John nor Jesus came to “please”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87E-80C7-4185-8527-ECCA942AA3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es Upon the Cities of Galilee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20-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roved the cities because they did not rep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e to you, Chorazin! Bethsaid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compared with Tyre and Sid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e to you, Capernau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compared with So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prayed a thankful pr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membered those who had believed and He gave them an invitation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D67-C80B-4391-9E4E-101158FE1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Great Invitatio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28-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me to Me, all you who labor and are heavy laden, and I will give you rest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ake My yoke upon you and learn from Me, for I am gentle and lowly in heart, and you will find rest for your souls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or My yoke is easy and My burden is ligh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EDE-0DCD-49ED-B55E-C43310FE35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53:39Z</dcterms:created>
  <dc:creator>Frank D Vines</dc:creator>
  <dc:description/>
  <dc:language>en-US</dc:language>
  <cp:lastModifiedBy>Frank D Vines</cp:lastModifiedBy>
  <dcterms:modified xsi:type="dcterms:W3CDTF">2006-08-20T12:27:38Z</dcterms:modified>
  <cp:revision>14</cp:revision>
  <dc:subject/>
  <dc:title>Life of Christ, Par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